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5B1-803F-4E03-A348-9C175298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85B-005A-46AD-91A4-C0BCEFFD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488-4066-4AFB-AD97-01189EE5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715-5574-43FC-9014-BEF4BBD6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31EA-2D8D-4E45-8B7B-FFC58165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B605-DECE-4C1C-9023-CCBDF64F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0B9D-69C5-465E-910A-16706724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E9A4-1A63-4273-A68D-A8461BA6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0C03-5FA3-4FAB-B9AA-67DBB32A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C328-D6A4-44BF-ABEE-478E4004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1AE0-1430-476B-A244-F5F5A85F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A48-9AD6-49D9-9228-5606D2BE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62B3-954B-4D34-867E-A4634846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3339-82B5-4C8C-B4F5-45E4533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EE42-6993-46B7-9E64-695D090F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4259-9147-4EBA-907C-187109C6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87AD-781A-4CA6-A690-074ADEEA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ECC-92C8-49C0-A1D9-63D3119B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4DC-D867-43B8-B405-9DC1D99F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2E5-6ECD-4E9D-B077-B6A2DDB7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2CE-C6E4-4FCF-AC0D-5A365265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8B4-33A9-4CC1-83A5-42ED5B7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99C-51E5-46ED-8D90-1F65293D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F25-74F4-4801-9631-6C62678B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815E-ACAD-440B-AF50-9D2340442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4041-AD99-456B-A9D7-1C7EC43C3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3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ZBESTU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BESTUL ESTE UN SILICAT FIBROS DE CALCIU SI MAGNEZI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RIETATI DE AZBES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 R I S O T I 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 R O C I D O L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M O Z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 R E M O L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C T I N O L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N T O F I L I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MENSIUNILE FIBRE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ZBESTOZ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µm/0,15 – 2µ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MEZOTELI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5 – 10µm/&lt; 0,1µ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CANCER PULMON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&gt;10µm/&gt;0,15µ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RCINA ELECTRICA ARE IMPORTANTA PENTRU PROCESELE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ATRUND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RETIN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ATA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BILITA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) CONSTA IN DIGESTIA PARTIALA / TOTALA A FIBREL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fibrele de crizotil se defibrileaza in fibr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amfibolii sufera mai putine modificari de dimensiune si stru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LUENTEAZA PROCESELE 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retinere, acumulare in org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migrare a fibrelor din plaman in alte organe si tesutu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TIVITATEA CATALIT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) PE SUPRAFATA FIBRELOR EXISTA CENTRII ACTIVI DONORI DE ELECTRON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REDUCATORI (donori de un electr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AZICI (donori de doi electron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-AU FACUT STUDII IN VITRO A INTERACTIUNII FIBRELOR DE AZBEST C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ALBUM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HEMOGLOB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REATIN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GAMMA GLOBUL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sorbtia macromoleculelor de ADN pe azbest este urmata de prejudicierea ADN-ului si modificarea activitatii enzimatice a ADN-az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le studii au cercetat posibilitatea modificarii activitatii catalitice a suprafetelor pulberilor de azbest prin trata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CA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TER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CHI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ENT MECAN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macinare) – se prejudiciaza slab structura fin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ENT TERM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60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, timp de 24 ore – a diminuat capacitatea interactiunii cu Hb, ADN, creatinina s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ma globulin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MEN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M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PO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az – nu s-au obtinut rezultate favora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83764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 PREZINTA  SUB  FORMA 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 R A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 R A N U L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 I B R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 E N Z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560" y="6854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RIET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ZISTENT 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izi, ba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ti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oziune meca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N IZOLATOR FIZ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o, hidro, fono, electr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ATE FI UTILIZAT IN COMBINATIE CU AL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MATERIA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BOCI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ZBEST + CIMENT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BOZURI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ZBEST + DIATOMITA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BOM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ZBEST + DIATOMITA + MICA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BOTERM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ZBEST + DIATOMITA + DESEURI DE ARDEZIE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UNEREA  LA  AZBEST  POATE PRODUCE  URMATOARELE AFECTIUNI (anexa 36 din N.G.P.M.)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Z B E S T O Z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 E Z O T E L I O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A N C E R   P U L M O N A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A N C E R   G A S T R O I N T E S T I N A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LI  PROFESIONALE  DETERMINATE  DE AZBEST  CU  DECLARATIE  OBLIGATORI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OPLASMUL LARING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OPLASMUL BRONSIC SI PULM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ZOTELIOMUL:  a) ple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periton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BESTO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ECTIUNI PULMONARE BENIGNE: a) pleurezia benig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atelectazii rotu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placi pleura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457200"/>
          <a:ext cx="8153280" cy="568476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LBERI DE AZBEST SI AMESTECURI CE CONTIN AZB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RCUMSTANTE DE EXPUNERE PROFESIONA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ALA PROFESIONALA SPECIF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MATERII PRIME, CRIZOTIL, AMFIB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ia, prelucrarea si utilizarea azbestului pentru fabricarea de materiale termo si fono izolante, materiale de frictiune (placute de frane), materiale anticorozive si ignifug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bestoza, placi pleurale, mezoteliom, cancer bronhopulmonar, cancer al cailor respiratorii superioare, cancerul altor orga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BOCI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ustria materialelor de constructii, construct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TA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ustria cauciucului, farmaceutica, produselor cosmetice, a colorantilor, hartiei, in tipografii si in electroteh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coza, mezoteliom, cancer bronsic, cancerul cailor respiratorii superio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FECTELE BIOLOG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 VIT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itotoxici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hemo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 VIV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brogeni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tivitate mutag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3840" y="22824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TILE CONSIDERATE FACTORI PRIMARI AI EFECTELOR BIOLOG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unile fibr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rcina electrica de supraf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bilitatea fibrelor in mediile biolog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tatea catalitica a suprafetei fibr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2:24:18Z</dcterms:created>
  <dc:creator>CRISTIAN</dc:creator>
  <dc:description/>
  <dc:language>en-US</dc:language>
  <cp:lastModifiedBy>CRISTIAN</cp:lastModifiedBy>
  <dcterms:modified xsi:type="dcterms:W3CDTF">2005-06-26T13:46:20Z</dcterms:modified>
  <cp:revision>9</cp:revision>
  <dc:subject/>
  <dc:title>AZBESTUL</dc:title>
</cp:coreProperties>
</file>